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9D9-1ED4-4DE3-AB17-EEEC0B03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7FB-F601-4E9A-8EDF-4276436A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6AA-09E6-434E-B8A0-6582A580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F6D-332E-4AA3-A134-0DB7819F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A3F-682A-4975-BAC8-2F5C605A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238-1C92-4308-AA97-BAADE4F8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A95-5CD1-45AB-ABA2-3BD9199C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87A-7CB0-4F03-8CF2-7F7E29B3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770-38FA-4FC6-8767-E2851426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816-36E4-40DE-8B80-85BBC37F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EC7-4811-45C3-8A8B-7C6D8072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5B0-B615-4E82-8B81-0E170DFD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9B04-65A0-49E3-973B-097F6D63A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76320"/>
            <a:ext cx="9144000" cy="65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змий сърцето ми,</a:t>
            </a:r>
            <a:endParaRPr b="1" lang="en-US" sz="54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а да бъда чист</a:t>
            </a:r>
            <a:endParaRPr b="1" lang="en-US" sz="54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като пречисто злато.</a:t>
            </a:r>
            <a:endParaRPr b="1" lang="en-US" sz="54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змий сърцето ми,</a:t>
            </a:r>
            <a:endParaRPr b="1" lang="en-US" sz="54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а да бъда Твой </a:t>
            </a:r>
            <a:endParaRPr b="1" lang="en-US" sz="54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авинаги.</a:t>
            </a:r>
            <a:endParaRPr b="1" lang="en-US" sz="54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76320"/>
            <a:ext cx="9144000" cy="678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5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Мойта душа един копнеж зове</a:t>
            </a:r>
            <a:endParaRPr b="1" lang="en-US" sz="5400" spc="1" strike="noStrike">
              <a:ln w="64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аради Теб, Боже,</a:t>
            </a:r>
            <a:endParaRPr b="1" lang="en-US" sz="5400" spc="1" strike="noStrike">
              <a:ln w="64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Аз искам днес да бъда,</a:t>
            </a:r>
            <a:endParaRPr b="1" lang="en-US" sz="5400" spc="1" strike="noStrike">
              <a:ln w="64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да бъда свят, Боже,</a:t>
            </a:r>
            <a:endParaRPr b="1" lang="en-US" sz="5400" spc="1" strike="noStrike">
              <a:ln w="64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32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0" y="76320"/>
            <a:ext cx="9144000" cy="65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 в Твоите пътища</a:t>
            </a:r>
            <a:endParaRPr b="1" lang="en-US" sz="5400" spc="1" strike="noStrike">
              <a:ln w="64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нежно да стъпвам,</a:t>
            </a:r>
            <a:endParaRPr b="1" lang="en-US" sz="5400" spc="1" strike="noStrike">
              <a:ln w="64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във Твоята нежна</a:t>
            </a:r>
            <a:endParaRPr b="1" lang="en-US" sz="5400" spc="1" strike="noStrike">
              <a:ln w="64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любов.</a:t>
            </a:r>
            <a:endParaRPr b="1" lang="en-US" sz="5400" spc="1" strike="noStrike">
              <a:ln w="64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3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0" y="76320"/>
            <a:ext cx="9144000" cy="65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5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змий сърцето ми,</a:t>
            </a:r>
            <a:endParaRPr b="1" lang="en-US" sz="54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а да бъда чист</a:t>
            </a:r>
            <a:endParaRPr b="1" lang="en-US" sz="54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като росата бяла.</a:t>
            </a:r>
            <a:endParaRPr b="1" lang="en-US" sz="54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змий сърцето ми,</a:t>
            </a:r>
            <a:endParaRPr b="1" lang="en-US" sz="54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змий го от греха</a:t>
            </a:r>
            <a:endParaRPr b="1" lang="en-US" sz="54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авинаги.</a:t>
            </a:r>
            <a:endParaRPr b="1" lang="en-US" sz="54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8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0" y="76320"/>
            <a:ext cx="9144000" cy="678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5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Мойта душа един копнеж зове</a:t>
            </a:r>
            <a:endParaRPr b="1" lang="en-US" sz="5400" spc="1" strike="noStrike">
              <a:ln w="64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аради Теб, Боже,</a:t>
            </a:r>
            <a:endParaRPr b="1" lang="en-US" sz="5400" spc="1" strike="noStrike">
              <a:ln w="64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Аз искам днес да бъда,</a:t>
            </a:r>
            <a:endParaRPr b="1" lang="en-US" sz="5400" spc="1" strike="noStrike">
              <a:ln w="64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да бъда свят, Боже,</a:t>
            </a:r>
            <a:endParaRPr b="1" lang="en-US" sz="5400" spc="1" strike="noStrike">
              <a:ln w="64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3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0" y="76320"/>
            <a:ext cx="9144000" cy="65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 в Твоите пътища</a:t>
            </a:r>
            <a:endParaRPr b="0" lang="en-US" sz="5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нежно да стъпвам,</a:t>
            </a:r>
            <a:endParaRPr b="0" lang="en-US" sz="5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[във Твоята нежна</a:t>
            </a:r>
            <a:endParaRPr b="0" lang="en-US" sz="5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любов./2]</a:t>
            </a:r>
            <a:endParaRPr b="0" lang="en-US" sz="5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38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35:44Z</dcterms:created>
  <dc:creator>TrifonTrifonow</dc:creator>
  <dc:description/>
  <dc:language>en-US</dc:language>
  <cp:lastModifiedBy>TrifonTrifonow</cp:lastModifiedBy>
  <dcterms:modified xsi:type="dcterms:W3CDTF">2005-12-15T06:36:06Z</dcterms:modified>
  <cp:revision>1</cp:revision>
  <dc:subject/>
  <dc:title>Slide 1</dc:title>
</cp:coreProperties>
</file>